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D6B-CBB1-49FD-8C0F-3D5F76F5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33A-60DE-4732-B40F-1DC13BB0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242-7C93-4A2B-AF1D-CB07843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0CD-789A-41FD-ABE6-628CE32E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303-C370-4AD8-A4D2-B4D1F45A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063-3455-4610-BD5D-5CF0C21E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632-59C2-4821-B4E6-B1F2E07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E1E-79BD-4798-8838-C4B6EF1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D07-87AC-4F6D-A28D-3335370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691-C312-435E-A56E-793C841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636-7135-4B89-B7CC-824858E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D51-B136-4025-A7CC-433D8F0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7F4-04A8-4984-8F96-EC58BCE2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78320" y="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78320" y="4572000"/>
            <a:ext cx="337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42900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280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0970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60920" y="0"/>
            <a:ext cx="3097080" cy="41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760920" y="4952880"/>
            <a:ext cx="3097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369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513240" y="4648320"/>
            <a:ext cx="3344760" cy="452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5053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17760" cy="448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654440"/>
            <a:ext cx="3317760" cy="448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40240" y="4419720"/>
            <a:ext cx="3317760" cy="448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33177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59252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94160" y="459252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494160" y="0"/>
            <a:ext cx="3363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5053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9:31:34Z</dcterms:created>
  <dc:creator>sfinch</dc:creator>
  <dc:description/>
  <dc:language>en-US</dc:language>
  <cp:lastModifiedBy>sfinch</cp:lastModifiedBy>
  <dcterms:modified xsi:type="dcterms:W3CDTF">2010-09-17T20:28:27Z</dcterms:modified>
  <cp:revision>3</cp:revision>
  <dc:subject/>
  <dc:title>Slide 1</dc:title>
</cp:coreProperties>
</file>